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02B-0310-4ED3-9513-90CCF12ED3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B7BE-CF6F-4516-A719-DA8A64990B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F84-90D9-4A17-98FC-007F8460C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E17-C450-4422-9916-D477DFE5DA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DDD0-D977-4A58-B425-3490A27289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444-3FDE-425E-8DB5-40F9EEB2EB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7B2B-F564-4AE6-B965-750954C16C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9331-DA86-4B8C-B4EF-CA437EE142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023-2149-4AB6-94E7-D69EBDC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9E7-E5BF-4640-9611-47CCEEC5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46F-36F7-455F-94FB-0AD344ED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820-4471-462D-8A76-649DD3FE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49E7-7F9F-4592-B0B7-F4928432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973-A943-4A14-AC07-5A871F2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A2E-E6A4-46AE-96DC-C9425F62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EEF-D37B-49EE-A9D4-4F4BB0A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FFC1-2E99-4CBE-B9D8-3EDDD3E9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F23-F985-4680-8EA9-A2F58A3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8F82-5529-4987-9033-DA78423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ABA-F62D-4442-8AB8-F1054B4F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9C7C-7624-4AF5-9814-B789CC3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FD05-701F-44BD-B225-2718E44D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BCF7-E236-441F-BB3D-0F5259C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7935-4F30-4E24-89D6-E1F11058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54B8-7B57-48E0-B54F-15FD9559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B81-BE03-4AE7-9C2A-E84020D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8C8-B523-4FF0-BAEA-381B536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6E1-C288-4021-A018-7920389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523-461C-4D21-8A34-2E18196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439-6985-4558-A90C-A2DA1A3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04E-8D40-4F74-ADD0-41FCB7C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8BA-39E2-457E-A69C-9B3845E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07E-60DA-4CAE-B0DC-E1E1CCDEE5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75CA-4034-40D3-9967-1E0C96998A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images.google.co.uk/imgres?imgurl=http://www.cuerpo8.es/STOL/reportajes/imgtrenesrenfe/AVE.jpg&amp;imgrefurl=http://www.cuerpo8.es/STOL/reportajes/STOLRpunt1.html&amp;usg=__9QNagKls24n2Coj3DoGN1ux_1NI=&amp;h=308&amp;w=461&amp;sz=20&amp;hl=en&amp;start=3&amp;sig2=0Xh3x1nh5GEi_e8A31C32g&amp;um=1&amp;tbnid=NsOJizRvaN7i-M:&amp;tbnh=86&amp;tbnw=128&amp;ei=tNRgSaCUBY6g_ga6nNHHDw&amp;prev=/images?q=AVE&amp;um=1&amp;hl=en&amp;rlz=1T4ACAW_enGB308GB308&amp;sa=N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enfe_Operadora" TargetMode="External"/><Relationship Id="rId2" Type="http://schemas.openxmlformats.org/officeDocument/2006/relationships/hyperlink" Target="http://es.wikipedia.org/wiki/Espa&#241;a" TargetMode="External"/><Relationship Id="rId3" Type="http://schemas.openxmlformats.org/officeDocument/2006/relationships/hyperlink" Target="http://es.wikipedia.org/wiki/1992" TargetMode="External"/><Relationship Id="rId4" Type="http://schemas.openxmlformats.org/officeDocument/2006/relationships/hyperlink" Target="http://es.wikipedia.org/wiki/2008" TargetMode="External"/><Relationship Id="rId5" Type="http://schemas.openxmlformats.org/officeDocument/2006/relationships/hyperlink" Target="http://es.wikipedia.org/wiki/Estaci&#243;n_de_Santa_Justa" TargetMode="External"/><Relationship Id="rId6" Type="http://schemas.openxmlformats.org/officeDocument/2006/relationships/hyperlink" Target="http://es.wikipedia.org/wiki/Estaci&#243;n_de_Zaragoza-Delicias" TargetMode="External"/><Relationship Id="rId7" Type="http://schemas.openxmlformats.org/officeDocument/2006/relationships/hyperlink" Target="http://es.wikipedia.org/wiki/Huesca" TargetMode="External"/><Relationship Id="rId8" Type="http://schemas.openxmlformats.org/officeDocument/2006/relationships/hyperlink" Target="http://es.wikipedia.org/wiki/Estaci&#243;n_de_Mar&#237;a_Zambrano" TargetMode="External"/><Relationship Id="rId9" Type="http://schemas.openxmlformats.org/officeDocument/2006/relationships/hyperlink" Target="http://es.wikipedia.org/wiki/Estaci&#243;n_de_Barcelona_Sants" TargetMode="External"/><Relationship Id="rId10" Type="http://schemas.openxmlformats.org/officeDocument/2006/relationships/hyperlink" Target="http://images.google.co.uk/imgres?imgurl=http://www.cuerpo8.es/STOL/reportajes/imgtrenesrenfe/AVE.jpg&amp;imgrefurl=http://www.cuerpo8.es/STOL/reportajes/STOLRpunt1.html&amp;usg=__9QNagKls24n2Coj3DoGN1ux_1NI=&amp;h=308&amp;w=461&amp;sz=20&amp;hl=en&amp;start=3&amp;sig2=0Xh3x1nh5GEi_e8A31C32g&amp;um=1&amp;tbnid=NsOJizRvaN7i-M:&amp;tbnh=86&amp;tbnw=128&amp;ei=tNRgSaCUBY6g_ga6nNHHDw&amp;prev=/images?q=AVE&amp;um=1&amp;hl=en&amp;rlz=1T4ACAW_enGB308GB308&amp;sa=N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hyperlink" Target="http://images.google.co.uk/imgres?imgurl=http://members.fortunecity.com/agreeve/landcol/MINIBUS.gif&amp;imgrefurl=http://members.fortunecity.com/agreeve/landcol1.htm&amp;h=288&amp;w=650&amp;sz=5&amp;hl=en&amp;start=7&amp;sig2=94WIpj_zt-Pq8MNoMmxhvA&amp;um=1&amp;tbnid=h4BnnR-0IwTdrM:&amp;tbnh=61&amp;tbnw=137&amp;ei=4k2OR-3xK6bAwwHJy8GJBg&amp;prev=/images%3Fq%3Dminibus%26svnum%3D10%26um%3D1%26hl%3Den%26rlz%3D1T4GFRC_enGB203GB203%26sa%3DN" TargetMode="External"/><Relationship Id="rId7" Type="http://schemas.openxmlformats.org/officeDocument/2006/relationships/image" Target="../media/image12.jpeg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85840" y="2000160"/>
            <a:ext cx="38574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e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929120" y="2000160"/>
            <a:ext cx="3857760" cy="435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85880" y="214200"/>
            <a:ext cx="7786800" cy="1678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Los países (The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parejas, conecta el inglés y el 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críbelos en tu cua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further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match 13 different types of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about the Spanish fast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categorise the transpor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l transporte en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09480" y="990720"/>
            <a:ext cx="800100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066680"/>
            <a:ext cx="2166840" cy="47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coch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bicicle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t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v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bar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me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tax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utoc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helicópte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fer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 autobú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http://www.touradour.com/TOWNS/biarritz/biataxi.jpg"/>
          <p:cNvPicPr/>
          <p:nvPr/>
        </p:nvPicPr>
        <p:blipFill>
          <a:blip r:embed="rId1"/>
          <a:stretch/>
        </p:blipFill>
        <p:spPr>
          <a:xfrm>
            <a:off x="3005280" y="1405080"/>
            <a:ext cx="1552320" cy="1136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8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http://www.frenchlinx.lotelinx.vic.edu.au/english/resources/imagebank/images/Paris_Helen/Services/RER.JPG"/>
          <p:cNvPicPr/>
          <p:nvPr/>
        </p:nvPicPr>
        <p:blipFill>
          <a:blip r:embed="rId2"/>
          <a:stretch/>
        </p:blipFill>
        <p:spPr>
          <a:xfrm>
            <a:off x="4643280" y="1362240"/>
            <a:ext cx="1500480" cy="113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0"/>
          <p:cNvSpPr/>
          <p:nvPr/>
        </p:nvSpPr>
        <p:spPr>
          <a:xfrm>
            <a:off x="34862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http://ve2.ele.etsmtl.ca/~va2mek/paris_trucs/autobus.jpg"/>
          <p:cNvPicPr/>
          <p:nvPr/>
        </p:nvPicPr>
        <p:blipFill>
          <a:blip r:embed="rId3"/>
          <a:stretch/>
        </p:blipFill>
        <p:spPr>
          <a:xfrm>
            <a:off x="3005280" y="2928960"/>
            <a:ext cx="1500120" cy="1154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2"/>
          <p:cNvSpPr/>
          <p:nvPr/>
        </p:nvSpPr>
        <p:spPr>
          <a:xfrm>
            <a:off x="35863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1" descr="http://ve2.ele.etsmtl.ca/~va2mek/paris_trucs/metro.jpg"/>
          <p:cNvPicPr/>
          <p:nvPr/>
        </p:nvPicPr>
        <p:blipFill>
          <a:blip r:embed="rId4"/>
          <a:stretch/>
        </p:blipFill>
        <p:spPr>
          <a:xfrm>
            <a:off x="3005280" y="4503600"/>
            <a:ext cx="1500120" cy="1171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4"/>
          <p:cNvSpPr/>
          <p:nvPr/>
        </p:nvSpPr>
        <p:spPr>
          <a:xfrm>
            <a:off x="36003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3" descr="http://www.karecuso.com/photos/velo1.jpg"/>
          <p:cNvPicPr/>
          <p:nvPr/>
        </p:nvPicPr>
        <p:blipFill>
          <a:blip r:embed="rId5"/>
          <a:stretch/>
        </p:blipFill>
        <p:spPr>
          <a:xfrm>
            <a:off x="4643280" y="2886120"/>
            <a:ext cx="1500480" cy="1123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6"/>
          <p:cNvSpPr/>
          <p:nvPr/>
        </p:nvSpPr>
        <p:spPr>
          <a:xfrm>
            <a:off x="3600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43052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tbn1.google.com/images?q=tbn:NsOJizRvaN7i-M:http://www.cuerpo8.es/STOL/reportajes/imgtrenesrenfe/AV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4429080"/>
            <a:ext cx="1503360" cy="1214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286680" y="1143000"/>
            <a:ext cx="2166840" cy="471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bi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st t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licop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er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14240" y="6429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ta Velocidad Español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omúnmente conocida como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V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es una marca comercial de la empresa explotadora de ferrocarriles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nfe Operador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reada exclusivamente para designar el servicio con trenes de gran velocidad e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spañ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partir de abril de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92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2008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os tiempos de recorrido de estos trenes son (aproximadamen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Sevilla-Santa Just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Zaragoza-Delici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 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7"/>
              </a:rPr>
              <a:t>Huesc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8"/>
              </a:rPr>
              <a:t>Málaga-María Zambran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9"/>
              </a:rPr>
              <a:t>Barcelona Sa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tbn1.google.com/images?q=tbn:NsOJizRvaN7i-M:http://www.cuerpo8.es/STOL/reportajes/imgtrenesrenfe/AVE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7720" y="4857840"/>
            <a:ext cx="2104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42960" y="785880"/>
            <a:ext cx="7572240" cy="314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F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dor de tr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os de tre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a Velocidad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g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os rápido que la 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A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c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o más ba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j0320934"/>
          <p:cNvPicPr/>
          <p:nvPr/>
        </p:nvPicPr>
        <p:blipFill>
          <a:blip r:embed="rId1"/>
          <a:stretch/>
        </p:blipFill>
        <p:spPr>
          <a:xfrm>
            <a:off x="539640" y="981000"/>
            <a:ext cx="1295640" cy="101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j0320970"/>
          <p:cNvPicPr/>
          <p:nvPr/>
        </p:nvPicPr>
        <p:blipFill>
          <a:blip r:embed="rId2"/>
          <a:stretch/>
        </p:blipFill>
        <p:spPr>
          <a:xfrm>
            <a:off x="4859280" y="981000"/>
            <a:ext cx="1514520" cy="11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j0199044"/>
          <p:cNvPicPr/>
          <p:nvPr/>
        </p:nvPicPr>
        <p:blipFill>
          <a:blip r:embed="rId3"/>
          <a:stretch/>
        </p:blipFill>
        <p:spPr>
          <a:xfrm>
            <a:off x="684360" y="2133720"/>
            <a:ext cx="1295280" cy="10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j0100510"/>
          <p:cNvPicPr/>
          <p:nvPr/>
        </p:nvPicPr>
        <p:blipFill>
          <a:blip r:embed="rId4"/>
          <a:stretch/>
        </p:blipFill>
        <p:spPr>
          <a:xfrm>
            <a:off x="4788000" y="2349360"/>
            <a:ext cx="182880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j0320926"/>
          <p:cNvPicPr/>
          <p:nvPr/>
        </p:nvPicPr>
        <p:blipFill>
          <a:blip r:embed="rId5"/>
          <a:stretch/>
        </p:blipFill>
        <p:spPr>
          <a:xfrm>
            <a:off x="324000" y="3284640"/>
            <a:ext cx="167616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MINIBU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3500280"/>
            <a:ext cx="1871640" cy="8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BS00951_"/>
          <p:cNvPicPr/>
          <p:nvPr/>
        </p:nvPicPr>
        <p:blipFill>
          <a:blip r:embed="rId8"/>
          <a:stretch/>
        </p:blipFill>
        <p:spPr>
          <a:xfrm>
            <a:off x="539640" y="4365720"/>
            <a:ext cx="1098720" cy="93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j0320954"/>
          <p:cNvPicPr/>
          <p:nvPr/>
        </p:nvPicPr>
        <p:blipFill>
          <a:blip r:embed="rId9"/>
          <a:stretch/>
        </p:blipFill>
        <p:spPr>
          <a:xfrm>
            <a:off x="5143680" y="435780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4"/>
          <p:cNvSpPr/>
          <p:nvPr/>
        </p:nvSpPr>
        <p:spPr>
          <a:xfrm>
            <a:off x="2195640" y="54450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j0307533"/>
          <p:cNvPicPr/>
          <p:nvPr/>
        </p:nvPicPr>
        <p:blipFill>
          <a:blip r:embed="rId10"/>
          <a:stretch/>
        </p:blipFill>
        <p:spPr>
          <a:xfrm>
            <a:off x="468360" y="5300640"/>
            <a:ext cx="1447920" cy="93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4214880" y="557208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tbn1.google.com/images?q=tbn:NsOJizRvaN7i-M:http://www.cuerpo8.es/STOL/reportajes/imgtrenesrenfe/AVE.jpg"/>
          <p:cNvPicPr/>
          <p:nvPr/>
        </p:nvPicPr>
        <p:blipFill>
          <a:blip r:embed="rId11"/>
          <a:stretch/>
        </p:blipFill>
        <p:spPr>
          <a:xfrm>
            <a:off x="5072040" y="5429160"/>
            <a:ext cx="1285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l transporte en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9480" y="990720"/>
            <a:ext cx="800100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62120" y="1066680"/>
            <a:ext cx="190476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icic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v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b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uto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helicóp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f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utobú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629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34862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5863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36003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3600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43052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2971800" y="11430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por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6" descr="..\..\..\..\..\Application Data\Microsoft\Media Catalog\Downloaded Clips\cl0\TN00734_.wmf"/>
          <p:cNvPicPr/>
          <p:nvPr/>
        </p:nvPicPr>
        <p:blipFill>
          <a:blip r:embed="rId1"/>
          <a:stretch/>
        </p:blipFill>
        <p:spPr>
          <a:xfrm>
            <a:off x="6781680" y="1143000"/>
            <a:ext cx="1135080" cy="674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7"/>
          <p:cNvSpPr/>
          <p:nvPr/>
        </p:nvSpPr>
        <p:spPr>
          <a:xfrm>
            <a:off x="2971800" y="18288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rroviari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8"/>
          <p:cNvSpPr/>
          <p:nvPr/>
        </p:nvSpPr>
        <p:spPr>
          <a:xfrm>
            <a:off x="2971800" y="25146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éri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9" descr="..\..\..\..\..\Application Data\Microsoft\Media Catalog\Downloaded Clips\cl0\BS01279_.wmf"/>
          <p:cNvPicPr/>
          <p:nvPr/>
        </p:nvPicPr>
        <p:blipFill>
          <a:blip r:embed="rId2"/>
          <a:stretch/>
        </p:blipFill>
        <p:spPr>
          <a:xfrm>
            <a:off x="6705720" y="1752480"/>
            <a:ext cx="1644480" cy="69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..\..\..\..\..\Application Data\Microsoft\Media Catalog\Downloaded Clips\cl0\NA01854_.wmf"/>
          <p:cNvPicPr/>
          <p:nvPr/>
        </p:nvPicPr>
        <p:blipFill>
          <a:blip r:embed="rId3"/>
          <a:stretch/>
        </p:blipFill>
        <p:spPr>
          <a:xfrm>
            <a:off x="6962760" y="2425680"/>
            <a:ext cx="961920" cy="54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1"/>
          <p:cNvSpPr/>
          <p:nvPr/>
        </p:nvSpPr>
        <p:spPr>
          <a:xfrm>
            <a:off x="2971800" y="3200400"/>
            <a:ext cx="35053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transport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í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2" descr="..\..\..\..\..\Application Data\Microsoft\Media Catalog\Downloaded Clips\cl0\NA00075_.wmf"/>
          <p:cNvPicPr/>
          <p:nvPr/>
        </p:nvPicPr>
        <p:blipFill>
          <a:blip r:embed="rId4"/>
          <a:stretch/>
        </p:blipFill>
        <p:spPr>
          <a:xfrm>
            <a:off x="7010280" y="3200400"/>
            <a:ext cx="846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06:47Z</dcterms:created>
  <dc:creator>Chris</dc:creator>
  <dc:description/>
  <dc:language>en-US</dc:language>
  <cp:lastModifiedBy>Chris</cp:lastModifiedBy>
  <dcterms:modified xsi:type="dcterms:W3CDTF">2009-03-23T09:37:03Z</dcterms:modified>
  <cp:revision>17</cp:revision>
  <dc:subject/>
  <dc:title>Slide 1</dc:title>
</cp:coreProperties>
</file>